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727-10C4-4B99-ABE4-4AEC73B3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86A-EBC6-4037-899E-85662AF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D09-9BEE-469D-9E6C-C3463695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31C-1DFC-4303-A805-0A7229C4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2E2-CE4A-4058-9906-7D8ACBD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533-6000-4DDB-A366-FBF25D4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4BD-687C-4328-ABAB-F36DCA3D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A1C-96B6-48E6-A051-D5F6D8C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FCB-0E2D-4E09-96F3-893A0D5E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3F4-FC0C-4FFB-85AE-A6A4EC0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CDD-B544-4DAA-98DD-D2E3FAB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0FD-473B-4072-98F7-AD0F2B5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5C8-3CEC-4ED4-BD95-0D6760B7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5949720"/>
            <a:ext cx="680076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4967280" cy="20876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3357720"/>
            <a:ext cx="2808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1341360"/>
            <a:ext cx="23050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iguralSmallCapsPlain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834600">
            <a:off x="826560" y="620280"/>
            <a:ext cx="2592720" cy="107964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iguralSmallCapsPlain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iguralSmallCapsPlain"/>
              </a:rPr>
              <a:t>mezzi 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510400">
            <a:off x="611280" y="2133360"/>
            <a:ext cx="3097080" cy="1368360"/>
          </a:xfrm>
          <a:prstGeom prst="rightArrow">
            <a:avLst>
              <a:gd name="adj1" fmla="val 50000"/>
              <a:gd name="adj2" fmla="val 5658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MIGLIOR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iguralSmallCapsPlain"/>
              </a:rPr>
              <a:t>MEZZ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516720" y="1844640"/>
            <a:ext cx="71280" cy="7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341360"/>
            <a:ext cx="1800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STILI DI VIT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SIM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2133720"/>
            <a:ext cx="201600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lib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CIRCOL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iguralSmallCapsPlain"/>
              </a:rPr>
              <a:t>DI MER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573360"/>
            <a:ext cx="2089080" cy="935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LIB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CIRCOLA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iguralSmallCapsPlain"/>
              </a:rPr>
              <a:t>DI PERS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2565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27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773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3789360"/>
            <a:ext cx="86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4365720"/>
            <a:ext cx="194472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Immi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Cit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iguralSmallCapsPlain"/>
              </a:rPr>
              <a:t>Multi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0Z</dcterms:created>
  <dc:creator>studente</dc:creator>
  <dc:description/>
  <dc:language>en-US</dc:language>
  <cp:lastModifiedBy>studente</cp:lastModifiedBy>
  <dcterms:modified xsi:type="dcterms:W3CDTF">2016-11-21T09:09:09Z</dcterms:modified>
  <cp:revision>5</cp:revision>
  <dc:subject/>
  <dc:title>Diapositiva 1</dc:title>
</cp:coreProperties>
</file>